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5.wmf" ContentType="image/x-wmf"/>
  <Override PartName="/ppt/media/image23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6.jpeg" ContentType="image/jpeg"/>
  <Override PartName="/ppt/media/image17.wmf" ContentType="image/x-wmf"/>
  <Override PartName="/ppt/media/image16.jpeg" ContentType="image/jpeg"/>
  <Override PartName="/ppt/media/image35.wmf" ContentType="image/x-wmf"/>
  <Override PartName="/ppt/media/image39.gif" ContentType="image/gif"/>
  <Override PartName="/ppt/media/image15.png" ContentType="image/png"/>
  <Override PartName="/ppt/media/image34.wmf" ContentType="image/x-wmf"/>
  <Override PartName="/ppt/media/image9.wmf" ContentType="image/x-wmf"/>
  <Override PartName="/ppt/media/image10.jpeg" ContentType="image/jpeg"/>
  <Override PartName="/ppt/media/image42.jpeg" ContentType="image/jpeg"/>
  <Override PartName="/ppt/media/image2.gif" ContentType="image/gif"/>
  <Override PartName="/ppt/media/image8.jpeg" ContentType="image/jpeg"/>
  <Override PartName="/ppt/media/image38.png" ContentType="image/png"/>
  <Override PartName="/ppt/media/image41.wmf" ContentType="image/x-wmf"/>
  <Override PartName="/ppt/media/image30.wmf" ContentType="image/x-wmf"/>
  <Override PartName="/ppt/media/image32.png" ContentType="image/png"/>
  <Override PartName="/ppt/media/image1.jpeg" ContentType="image/jpeg"/>
  <Override PartName="/ppt/media/image40.wmf" ContentType="image/x-wmf"/>
  <Override PartName="/ppt/media/image36.wmf" ContentType="image/x-wmf"/>
  <Override PartName="/ppt/media/image44.jpeg" ContentType="image/jpeg"/>
  <Override PartName="/ppt/media/image45.wmf" ContentType="image/x-wmf"/>
  <Override PartName="/ppt/media/image4.jpeg" ContentType="image/jpeg"/>
  <Override PartName="/ppt/media/image5.png" ContentType="image/png"/>
  <Override PartName="/ppt/media/image43.jpeg" ContentType="image/jpeg"/>
  <Override PartName="/ppt/media/image28.png" ContentType="image/png"/>
  <Override PartName="/ppt/media/image31.wmf" ContentType="image/x-wmf"/>
  <Override PartName="/ppt/media/image11.png" ContentType="image/png"/>
  <Override PartName="/ppt/media/image29.wmf" ContentType="image/x-wmf"/>
  <Override PartName="/ppt/media/image14.gif" ContentType="image/gif"/>
  <Override PartName="/ppt/media/image37.wmf" ContentType="image/x-wmf"/>
  <Override PartName="/ppt/media/image7.wmf" ContentType="image/x-wmf"/>
  <Override PartName="/ppt/media/image13.jpeg" ContentType="image/jpeg"/>
  <Override PartName="/ppt/media/image12.jpeg" ContentType="image/jpeg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97DF-C01D-4DAE-A8D0-5BC9CA92BFC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E1EE-89BA-4385-BFA4-F91A1104000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BAB-BDF5-46A5-A465-72A752A6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320E-4A0F-4490-B02A-BC4C99C3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704-CE6F-4532-80B2-A077ACC4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DA4D-7166-49CF-9201-DF0B1B230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1412-0553-4B12-B061-675F30BE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A32D-7963-411C-ABAA-6CA63DB6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D3CE-E52E-49E1-B2E1-663B42E6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B2C4-FE9A-4092-B5FF-5EF9955C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2C8D-CFE5-4649-A728-2E3A24CC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9B31-4344-4BCE-A66B-3CFC959A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5985-4D44-4DDC-8847-56FCC0B5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8C20-9299-4F37-90EB-EEB7AA1F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857C2-BD4F-4BCA-9F90-00788A41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8CF8-2B24-4E46-93CC-DCD67846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21CE-2585-4656-96EB-1C9D6923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908F-FF92-425D-850B-CBFA8643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F1D1-A3C2-4007-AF69-4F5C4154E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25361D-1734-45E4-8A2F-CDD9C5BC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0C121-1C2D-433B-9F1D-CE822923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1E1293-8A56-4875-A53C-CDE6FB55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B2779-394A-4C95-82B1-17A48E3B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6B8720-D61C-423B-9543-F73A88D9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3CC-E9D4-47F2-A363-E6CB826A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594C7-1F03-44EF-A8FA-34D3A9D2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0198C-8818-4371-B0AB-02D0E182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B3724B-DBEA-403D-84C6-78966FCA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0D8E1-FC0E-4452-9120-F7E84127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80C32-0AFF-4690-94AC-FCB8E21B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C0ECC-3FA0-4E85-B9B0-9BED6F56E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68B0C-7E49-4B47-9D6B-E25ED162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C356E-129B-4F46-9EB6-F31927AD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B9145-EEA2-45DB-BC52-EB2D2E7D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8F645-D5C3-4873-BE34-5460F420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170C-24CB-48D9-AE9E-D33C62C16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AE62B-BB0B-4BBA-B5A1-0073489D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8B6F7-A22B-46B8-9233-CE3D698B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D3622-69BA-4EEB-AB78-043F6D7A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EF59B-A2F3-44BD-8782-B741F3DA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E6846-E12A-44C7-B988-FC446E51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69A34-F48C-451D-8248-4FCA9D4E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C1A37-3731-44BA-ADDB-96EE74B7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F5CD7-7DEC-4E9C-976B-05B246118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4B256-EB42-440C-9158-0B6F3CE3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4E4096-05D5-440C-BB96-DD4009FC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702-6492-4948-82A3-72053FAD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3211F5-F1B6-4CA3-8E52-720E5D9E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FC6806-07EF-4917-BAFC-018BF40A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745AFB-5A03-431A-BE78-D41BB62F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ADECB-217B-4A62-B285-74A69674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CA738-BF28-4763-AC40-6B03D100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CFA4E-8B4B-49FD-AC79-4EF5B385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51768-2C32-44F4-987C-4FC80D0C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5F7443-501C-494F-AA5A-578C353F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D1DA39-DC91-4B54-9A02-66C10008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A6F149-73A5-4840-A40D-827B6A75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94D-E331-4A2E-A01C-004CBA22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60A26-A86C-43DB-854B-80F881AD8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E7E1F0-C4BC-45FE-B2A9-FE9942D4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B7996-8E8C-4A41-AF0C-5D73FF79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BE4AB-652C-4CD7-B848-C368369A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E8646-7A29-4C0B-BAD7-94A438A0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753AC6-4EA8-4D7E-8930-D64F3BE7B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334354-51F3-4E51-A730-83D4D2FB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7A6DA3-CFAC-4629-9227-B92A336C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13E72D-C0BD-4614-8606-0DCA94C9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F7E35-8A3E-4770-8014-EF8514BC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D699-0CED-4E4F-8538-F3E5B30B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33EF21-9497-41C4-9AB6-180B2A9F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18D2D-E87E-4460-A960-BD88601B7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7B3740-E8A5-46B3-BD27-29AB9A54F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C6C6F-D725-4C0D-88AB-0F21EA6B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1EA309-FE8F-4E8F-98E2-62ED3BB4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03E8D-31B1-4DF5-A2AC-D71ECCACB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93767B-2A51-4AA1-9C07-3F2A68ED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F0FBE-D0A4-486D-B0FD-A9F0419C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BC54BF-D843-45F1-885A-2539AD43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EAB26A-3E74-4442-8BD4-AAE55F5E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1B17-9221-44E5-AA8E-AE4AE7E2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1BEEB0-5E36-4397-85E6-0FDA28DA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463F9F-685A-4DA6-B2C3-1ACB120F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216E37-7E74-4FBC-A00F-90422169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CA697-9CEB-49DF-8A2D-A787EE45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99D444-D412-47D7-BC24-F414D4C07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2A24-8A2C-43EA-8931-E606CEC1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0FF6-CD85-4E43-8E96-3CDFCAD8CDCB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350B-E453-43D2-93AC-1F816CB95736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6AE9-002C-4C4E-A5A3-3E7BECD79E6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C47F-8BC3-40A5-B312-DA6EBAF844DF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5D27-7F43-466F-B234-817493473937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FCE1-A466-4E8F-9CAB-EEA3CECA3DAC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A77F-DF87-4CBD-80E2-4B7F6871C77E}" type="slidenum">
              <a:rPr b="1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ar-SA" sz="72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لذكاء الاجتماعي </a:t>
            </a:r>
            <a:endParaRPr b="0" lang="en-US" sz="7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TextBox 7"/>
          <p:cNvSpPr/>
          <p:nvPr/>
        </p:nvSpPr>
        <p:spPr>
          <a:xfrm>
            <a:off x="3505320" y="5105520"/>
            <a:ext cx="525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8637"/>
                </a:solidFill>
                <a:latin typeface="Verdana"/>
                <a:cs typeface="AL-Mohanad Bold"/>
              </a:rPr>
              <a:t>للمدرب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Verdana"/>
                <a:ea typeface="AL-Mohanad Bold"/>
              </a:rPr>
              <a:t>        د. خالد بن صالح المنيف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22860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فن  التعامل  وقوة التأثير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Group 10"/>
          <p:cNvGrpSpPr/>
          <p:nvPr/>
        </p:nvGrpSpPr>
        <p:grpSpPr>
          <a:xfrm>
            <a:off x="2895480" y="3276720"/>
            <a:ext cx="3657600" cy="1632240"/>
            <a:chOff x="2895480" y="3276720"/>
            <a:chExt cx="3657600" cy="1632240"/>
          </a:xfrm>
        </p:grpSpPr>
        <p:sp>
          <p:nvSpPr>
            <p:cNvPr id="362" name="WordArt 4"/>
            <p:cNvSpPr txBox="1"/>
            <p:nvPr/>
          </p:nvSpPr>
          <p:spPr>
            <a:xfrm>
              <a:off x="2895480" y="3276720"/>
              <a:ext cx="365760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7598d9"/>
                    </a:solidFill>
                    <a:miter/>
                  </a:ln>
                  <a:solidFill>
                    <a:srgbClr val="bfbfb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K Elham"/>
                </a:rPr>
                <a:t> </a:t>
              </a:r>
              <a:endPara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bfbfb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K Elham"/>
                <a:ea typeface="K Elham"/>
              </a:endParaRPr>
            </a:p>
          </p:txBody>
        </p:sp>
        <p:pic>
          <p:nvPicPr>
            <p:cNvPr id="363" name="Picture 4" descr="C:\Documents and Settings\asus\My Documents\عرض\صور4\backbghearts.gif"/>
            <p:cNvPicPr/>
            <p:nvPr/>
          </p:nvPicPr>
          <p:blipFill>
            <a:blip r:embed="rId2"/>
            <a:stretch/>
          </p:blipFill>
          <p:spPr>
            <a:xfrm>
              <a:off x="2895480" y="3276720"/>
              <a:ext cx="365760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9"/>
            <p:cNvSpPr/>
            <p:nvPr/>
          </p:nvSpPr>
          <p:spPr>
            <a:xfrm>
              <a:off x="3047760" y="3352680"/>
              <a:ext cx="3276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4800" spc="-1" strike="noStrike">
                  <a:solidFill>
                    <a:srgbClr val="a6a6a6"/>
                  </a:solidFill>
                  <a:latin typeface="Verdana"/>
                  <a:cs typeface="AL-Mohanad Bold"/>
                </a:rPr>
                <a:t>ســــحـــر الــحـــب</a:t>
              </a:r>
              <a:endParaRPr b="0" lang="en-US" sz="4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 rot="19777200">
            <a:off x="375840" y="5405400"/>
            <a:ext cx="2057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تكبر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WordArt 4"/>
          <p:cNvSpPr txBox="1"/>
          <p:nvPr/>
        </p:nvSpPr>
        <p:spPr>
          <a:xfrm>
            <a:off x="2438280" y="1752480"/>
            <a:ext cx="3657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2600">
                  <a:solidFill>
                    <a:srgbClr val="515d73"/>
                  </a:solidFill>
                  <a:miter/>
                </a:ln>
                <a:solidFill>
                  <a:srgbClr val="ffff9b"/>
                </a:solidFill>
                <a:effectLst>
                  <a:outerShdw dist="20316" dir="1784692" blurRad="0" rotWithShape="0">
                    <a:srgbClr val="000000">
                      <a:alpha val="40000"/>
                    </a:srgbClr>
                  </a:outerShdw>
                </a:effectLst>
                <a:latin typeface="K Elham"/>
              </a:rPr>
              <a:t>اشراقات</a:t>
            </a:r>
            <a:endParaRPr b="1" lang="en-US" sz="7200" spc="1" strike="noStrike">
              <a:ln w="12600">
                <a:solidFill>
                  <a:srgbClr val="515d73"/>
                </a:solidFill>
                <a:miter/>
              </a:ln>
              <a:solidFill>
                <a:srgbClr val="ffff9b"/>
              </a:solidFill>
              <a:effectLst>
                <a:outerShdw dist="20316" dir="1784692" blurRad="0" rotWithShape="0">
                  <a:srgbClr val="000000">
                    <a:alpha val="40000"/>
                  </a:srgbClr>
                </a:outerShdw>
              </a:effectLst>
              <a:latin typeface="K Elham"/>
              <a:ea typeface="K Elham"/>
            </a:endParaRPr>
          </a:p>
        </p:txBody>
      </p:sp>
      <p:sp>
        <p:nvSpPr>
          <p:cNvPr id="394" name="Rectangle 3"/>
          <p:cNvSpPr/>
          <p:nvPr/>
        </p:nvSpPr>
        <p:spPr>
          <a:xfrm rot="19908000">
            <a:off x="2752200" y="5543640"/>
            <a:ext cx="1905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حظ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3"/>
          <p:cNvSpPr/>
          <p:nvPr/>
        </p:nvSpPr>
        <p:spPr>
          <a:xfrm rot="20265600">
            <a:off x="4541400" y="5547960"/>
            <a:ext cx="304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فكر بأهميتهم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7" descr="C:\Documents and Settings\asus\My Documents\عرض\صور4\80.gif"/>
          <p:cNvPicPr/>
          <p:nvPr/>
        </p:nvPicPr>
        <p:blipFill>
          <a:blip r:embed="rId2"/>
          <a:stretch/>
        </p:blipFill>
        <p:spPr>
          <a:xfrm>
            <a:off x="6095880" y="533520"/>
            <a:ext cx="1057320" cy="1057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Diagram 5" descr=""/>
          <p:cNvPicPr/>
          <p:nvPr/>
        </p:nvPicPr>
        <p:blipFill>
          <a:blip r:embed="rId1"/>
          <a:stretch/>
        </p:blipFill>
        <p:spPr>
          <a:xfrm>
            <a:off x="0" y="-907920"/>
            <a:ext cx="8259840" cy="86198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5" descr="C:\Documents and Settings\asus\My Documents\عرض\صور1\48.JPG"/>
          <p:cNvPicPr/>
          <p:nvPr/>
        </p:nvPicPr>
        <p:blipFill>
          <a:blip r:embed="rId1"/>
          <a:stretch/>
        </p:blipFill>
        <p:spPr>
          <a:xfrm>
            <a:off x="-228600" y="228600"/>
            <a:ext cx="2708280" cy="152388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3124080" y="1069920"/>
            <a:ext cx="5105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Century Schoolbook"/>
                <a:ea typeface="AL-Mohanad Bold"/>
              </a:rPr>
              <a:t>* ماذا  يقول الناس الذين  يملكون تقمص عاطفي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فهم ماتشعر به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نا حزين  لأجل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إن ضربات قلبي تتسار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نا  سعيد  لأجل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Century Schoolbook"/>
                <a:ea typeface="AL-Mohanad Bold"/>
              </a:rPr>
              <a:t>* ماذا  يفعلون 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بكو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تغير  تعابيره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ساعدون الآخرين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يشعر بالفرح  إذا  فازو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4" descr="C:\Documents and Settings\asus\My Documents\عرض\صور4\DSGNC039.WMF"/>
          <p:cNvPicPr/>
          <p:nvPr/>
        </p:nvPicPr>
        <p:blipFill>
          <a:blip r:embed="rId2"/>
          <a:stretch/>
        </p:blipFill>
        <p:spPr>
          <a:xfrm>
            <a:off x="1295280" y="3048120"/>
            <a:ext cx="2895840" cy="2290680"/>
          </a:xfrm>
          <a:prstGeom prst="rect">
            <a:avLst/>
          </a:prstGeom>
          <a:ln w="0">
            <a:noFill/>
          </a:ln>
        </p:spPr>
      </p:pic>
      <p:sp>
        <p:nvSpPr>
          <p:cNvPr id="402" name="WordArt 6"/>
          <p:cNvSpPr txBox="1"/>
          <p:nvPr/>
        </p:nvSpPr>
        <p:spPr>
          <a:xfrm>
            <a:off x="609480" y="609480"/>
            <a:ext cx="990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تأمل</a:t>
            </a:r>
            <a:endParaRPr b="0" lang="en-US" sz="18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1640" y="228240"/>
            <a:ext cx="38862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70c0"/>
                </a:solidFill>
                <a:latin typeface="Century Schoolbook"/>
                <a:cs typeface="K Elham"/>
              </a:rPr>
              <a:t>كُن  صيادا  ماهراً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5105520" y="2361960"/>
            <a:ext cx="30477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ماذا  يريد  السمك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الحصان  والخادمة الذكي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كار نجي وصاحب الفندق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vert"/>
  </p:transition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20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قاعدة  خطيرة  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523880" y="167616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نتصر في كل  معركة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 thruBlk="true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24280" y="456840"/>
            <a:ext cx="3276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هل  تُريد  أن يحتفى بك  أينما  ذهبت؟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819520" y="3276720"/>
            <a:ext cx="533376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حصائية  شركة الهاتف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رئيس وطائر زوج خادمته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ندوب التسويق  الذكي  والطواب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شيك العجيب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ستراتيجية روزفل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9" name="Picture 5" descr="C:\Documents and Settings\asus\My Documents\My Pictures\Microsoft Clip Organizer\j0402446.jpg"/>
          <p:cNvPicPr/>
          <p:nvPr/>
        </p:nvPicPr>
        <p:blipFill>
          <a:blip r:embed="rId1"/>
          <a:stretch/>
        </p:blipFill>
        <p:spPr>
          <a:xfrm>
            <a:off x="987480" y="530280"/>
            <a:ext cx="3286080" cy="2603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E:\CLIPART\OBJECTS\COMMU\TELE017.WMF"/>
          <p:cNvPicPr/>
          <p:nvPr/>
        </p:nvPicPr>
        <p:blipFill>
          <a:blip r:embed="rId2"/>
          <a:stretch/>
        </p:blipFill>
        <p:spPr>
          <a:xfrm>
            <a:off x="2362320" y="3733920"/>
            <a:ext cx="946080" cy="7617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E:\CLIPART\ANIMALS\ANIMBIRD\BIRD032.WMF"/>
          <p:cNvPicPr/>
          <p:nvPr/>
        </p:nvPicPr>
        <p:blipFill>
          <a:blip r:embed="rId3"/>
          <a:stretch/>
        </p:blipFill>
        <p:spPr>
          <a:xfrm>
            <a:off x="533520" y="4641840"/>
            <a:ext cx="1218960" cy="8064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C:\Documents and Settings\asus\My Documents\My Pictures\stamp.gif"/>
          <p:cNvPicPr/>
          <p:nvPr/>
        </p:nvPicPr>
        <p:blipFill>
          <a:blip r:embed="rId4"/>
          <a:stretch/>
        </p:blipFill>
        <p:spPr>
          <a:xfrm>
            <a:off x="2286000" y="5181480"/>
            <a:ext cx="963720" cy="824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استخدم رصيد المليون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828800" y="1980720"/>
            <a:ext cx="5410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ماذا  الابتسام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اذا  تفعل الابتسام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5" name="Picture 5" descr="D:\only me\wafa\photo\smilie.gif"/>
          <p:cNvPicPr/>
          <p:nvPr/>
        </p:nvPicPr>
        <p:blipFill>
          <a:blip r:embed="rId1"/>
          <a:stretch/>
        </p:blipFill>
        <p:spPr>
          <a:xfrm>
            <a:off x="762120" y="4267080"/>
            <a:ext cx="1904760" cy="18957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D:\only me\wafa\photo\smilie.gif"/>
          <p:cNvPicPr/>
          <p:nvPr/>
        </p:nvPicPr>
        <p:blipFill>
          <a:blip r:embed="rId2"/>
          <a:stretch/>
        </p:blipFill>
        <p:spPr>
          <a:xfrm>
            <a:off x="2057400" y="1601640"/>
            <a:ext cx="915840" cy="9115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5" descr="D:\only me\wafa\photo\smilie.gif"/>
          <p:cNvPicPr/>
          <p:nvPr/>
        </p:nvPicPr>
        <p:blipFill>
          <a:blip r:embed="rId3"/>
          <a:stretch/>
        </p:blipFill>
        <p:spPr>
          <a:xfrm>
            <a:off x="5410080" y="4648320"/>
            <a:ext cx="1219320" cy="1212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D:\only me\wafa\photo\smilie.gif"/>
          <p:cNvPicPr/>
          <p:nvPr/>
        </p:nvPicPr>
        <p:blipFill>
          <a:blip r:embed="rId4"/>
          <a:stretch/>
        </p:blipFill>
        <p:spPr>
          <a:xfrm>
            <a:off x="7311960" y="609480"/>
            <a:ext cx="689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لاتكلفك  درهما  ولا دينارا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962520" y="1599840"/>
            <a:ext cx="44193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فرغت يا أبا الوليد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يف  تكون أفضل  متحدثا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ارنجي وعالم النب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بوزان وفائدة  المرض</a:t>
            </a:r>
            <a:r>
              <a:rPr b="0" lang="ar-SA" sz="3200" spc="-1" strike="noStrike">
                <a:solidFill>
                  <a:srgbClr val="ffffff"/>
                </a:solidFill>
                <a:latin typeface="Century Schoolbook"/>
                <a:ea typeface="AL-Mohanad Bold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8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2000" fill="hold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048120" y="837720"/>
            <a:ext cx="25905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ماهي  أهمية الاستماع؟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09480" y="34290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23" name="Group 5"/>
          <p:cNvGrpSpPr/>
          <p:nvPr/>
        </p:nvGrpSpPr>
        <p:grpSpPr>
          <a:xfrm>
            <a:off x="304920" y="228600"/>
            <a:ext cx="2081160" cy="1460520"/>
            <a:chOff x="304920" y="228600"/>
            <a:chExt cx="2081160" cy="1460520"/>
          </a:xfrm>
        </p:grpSpPr>
        <p:pic>
          <p:nvPicPr>
            <p:cNvPr id="424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208116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Rectangle 2"/>
            <p:cNvSpPr/>
            <p:nvPr/>
          </p:nvSpPr>
          <p:spPr>
            <a:xfrm>
              <a:off x="533520" y="228600"/>
              <a:ext cx="1400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26" name="Picture 7" descr="C:\Documents and Settings\asus\My Documents\My Pictures\ear.jpg"/>
          <p:cNvPicPr/>
          <p:nvPr/>
        </p:nvPicPr>
        <p:blipFill>
          <a:blip r:embed="rId2"/>
          <a:stretch/>
        </p:blipFill>
        <p:spPr>
          <a:xfrm>
            <a:off x="6095880" y="390600"/>
            <a:ext cx="216216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2"/>
          <p:cNvSpPr/>
          <p:nvPr/>
        </p:nvSpPr>
        <p:spPr>
          <a:xfrm>
            <a:off x="1600200" y="47160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9933"/>
                </a:solidFill>
                <a:latin typeface="Verdana"/>
                <a:ea typeface="K Elham"/>
              </a:rPr>
              <a:t> 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cs typeface="K Elham"/>
              </a:rPr>
              <a:t>هناك 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ea typeface="K Elham"/>
              </a:rPr>
              <a:t>5</a:t>
            </a:r>
            <a:r>
              <a:rPr b="1" lang="ar-SA" sz="4400" spc="-1" strike="noStrike">
                <a:solidFill>
                  <a:srgbClr val="ff9933"/>
                </a:solidFill>
                <a:latin typeface="Verdana"/>
                <a:ea typeface="K Elham"/>
              </a:rPr>
              <a:t> نقاط اساسية </a:t>
            </a:r>
            <a:r>
              <a:rPr b="1" lang="ar-SA" sz="4800" spc="-1" strike="noStrike">
                <a:solidFill>
                  <a:srgbClr val="ff9933"/>
                </a:solidFill>
                <a:latin typeface="Verdana"/>
                <a:ea typeface="K Elham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838080" y="1676520"/>
            <a:ext cx="69343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1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نظر  الى محدثك بانتباه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ما دمت تستمع له فيجب أن تنظر اليه ايضا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2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قترب من المتحدث واستمع بإصغاء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وكأنك لا تريد أن تفوتك أي كلم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3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طرح الاسئل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Verdana"/>
                <a:cs typeface="AL-Mohanad Bold"/>
              </a:rPr>
              <a:t>اجعل متحدثك متأكدا بأنك تستمع ل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لا تقاطع المتحدث ولا تخرج عن الموضوع حين تسأله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Verdana"/>
                <a:ea typeface="AL-Mohanad Bold"/>
              </a:rPr>
              <a:t>. استعمل كلمات المتحدث حين تحاوره وتجنب استعمال (أنا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فأنك اذا استعملت (أنا) تغير تركيز الحديث من المتحدث ال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AL-Mohanad Bold"/>
              </a:rPr>
              <a:t>المستمع وهذا يجعله المستمع ويجعلك المتحدث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C:\Documents and Settings\asus\My Documents\My Pictures\Microsoft Clip Organizer\j0293480.wmf"/>
          <p:cNvPicPr/>
          <p:nvPr/>
        </p:nvPicPr>
        <p:blipFill>
          <a:blip r:embed="rId1"/>
          <a:stretch/>
        </p:blipFill>
        <p:spPr>
          <a:xfrm>
            <a:off x="762120" y="685800"/>
            <a:ext cx="2098440" cy="1295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البداية؟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0" y="2133360"/>
            <a:ext cx="3581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ذي  يقول  أنه لن  يتغير  فلا يضيع  وقته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ذي أتى ليتعرف أو يقارن أو يتسلى فلن يستفيد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90560" y="45684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مهارة الاستماع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4343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كيف نتقن فن الاستماع؟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2" name="Picture 4" descr="C:\Documents and Settings\asus\My Documents\My Pictures\listen02.gif"/>
          <p:cNvPicPr/>
          <p:nvPr/>
        </p:nvPicPr>
        <p:blipFill>
          <a:blip r:embed="rId1"/>
          <a:stretch/>
        </p:blipFill>
        <p:spPr>
          <a:xfrm>
            <a:off x="762120" y="2438280"/>
            <a:ext cx="3038400" cy="2371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6" dur="5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3" descr="C:\Documents and Settings\asus\My Documents\My Pictures\Microsoft Clip Organizer\j0311820.wmf"/>
          <p:cNvPicPr/>
          <p:nvPr/>
        </p:nvPicPr>
        <p:blipFill>
          <a:blip r:embed="rId1"/>
          <a:stretch/>
        </p:blipFill>
        <p:spPr>
          <a:xfrm>
            <a:off x="2514600" y="2463840"/>
            <a:ext cx="3881520" cy="340344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أنواع الاستماع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7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70" fill="hold"/>
                                        <p:tgtEl>
                                          <p:spTgt spid="4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598d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3"/>
          <p:cNvSpPr/>
          <p:nvPr/>
        </p:nvSpPr>
        <p:spPr>
          <a:xfrm>
            <a:off x="7315200" y="3039840"/>
            <a:ext cx="1523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بنكٌ في غاية الغرابة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380880" y="751680"/>
            <a:ext cx="586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ومن عجائبه  أن حساباته  غير  قابلة  للإلغاء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L-Mohanad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4"/>
          <p:cNvSpPr/>
          <p:nvPr/>
        </p:nvSpPr>
        <p:spPr>
          <a:xfrm rot="21236400">
            <a:off x="5943600" y="2430000"/>
            <a:ext cx="1297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L-Mohanad Bold"/>
              </a:rPr>
              <a:t>ليس  كبقية البنوك!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5"/>
          <p:cNvSpPr/>
          <p:nvPr/>
        </p:nvSpPr>
        <p:spPr>
          <a:xfrm rot="21304200">
            <a:off x="3966840" y="2792880"/>
            <a:ext cx="1374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cs typeface="AL-Mohanad Bold"/>
              </a:rPr>
              <a:t>بنك  تفتحُ فيه  ماشئت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ea typeface="AL-Mohanad Bold"/>
              </a:rPr>
              <a:t> من الحسابات 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1905120" y="1956240"/>
            <a:ext cx="15890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L-Mohanad Bold"/>
              </a:rPr>
              <a:t>والحساب  لايستغرق فتحه سوى (ثواني)!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0" y="2771640"/>
            <a:ext cx="1523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Arial"/>
                <a:ea typeface="AL-Mohanad Bold"/>
              </a:rPr>
              <a:t> الإيداع   والسحب فيه  بلا أوراق أو  أختام  !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Rectangle 8" descr=""/>
          <p:cNvPicPr/>
          <p:nvPr/>
        </p:nvPicPr>
        <p:blipFill>
          <a:blip r:embed="rId1"/>
          <a:stretch/>
        </p:blipFill>
        <p:spPr>
          <a:xfrm>
            <a:off x="5102280" y="49320"/>
            <a:ext cx="3633840" cy="209052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9"/>
          <p:cNvSpPr/>
          <p:nvPr/>
        </p:nvSpPr>
        <p:spPr>
          <a:xfrm>
            <a:off x="762120" y="1600200"/>
            <a:ext cx="51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  <a:cs typeface="AL-Mohanad Bold"/>
              </a:rPr>
              <a:t>هل عرفتم  هذا  البنك العجيب!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u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5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6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1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2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dur="8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77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6" dur="770" fill="hold"/>
                                        <p:tgtEl>
                                          <p:spTgt spid="4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8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0" dur="77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بنك المشاعر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419360" y="1676160"/>
            <a:ext cx="3886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قدار الثقة التي نبنيها وندخرها في علاقة ما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ادخار: الاحترام واللطف والنزاهة والالتزام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248040" indent="-2480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0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سحب: عدم الاحترام، العجرفة وتأليه الذات، الخيانة وعدم الالتزام، الحكم الظالم أو التهديد، الاعتراف بأخطاء الآخرين.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5" name="Picture 4" descr="C:\Documents and Settings\asus\My Documents\عرض\صور4\GOVT137.WMF"/>
          <p:cNvPicPr/>
          <p:nvPr/>
        </p:nvPicPr>
        <p:blipFill>
          <a:blip r:embed="rId2"/>
          <a:stretch/>
        </p:blipFill>
        <p:spPr>
          <a:xfrm>
            <a:off x="685800" y="1905120"/>
            <a:ext cx="3228840" cy="3552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666880" y="7617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9933"/>
                </a:solidFill>
                <a:latin typeface="Century Schoolbook"/>
                <a:cs typeface="K Elham"/>
              </a:rPr>
              <a:t>اختر  شخص  عزيز  وتأمل في ثلاثة سحوبات وخصومات متوقعة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895480"/>
            <a:ext cx="38098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خصومات متوقعة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-54216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  <a:p>
            <a:pPr marL="5421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0600" y="2819160"/>
            <a:ext cx="31240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يداعات متوقعة :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 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9" name="Picture 8" descr="E:\CLIPART\BORDERS\BRDRMISC\BDROC007.WMF"/>
          <p:cNvPicPr/>
          <p:nvPr/>
        </p:nvPicPr>
        <p:blipFill>
          <a:blip r:embed="rId1"/>
          <a:stretch/>
        </p:blipFill>
        <p:spPr>
          <a:xfrm>
            <a:off x="304920" y="533520"/>
            <a:ext cx="2270160" cy="15238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2"/>
          <p:cNvSpPr/>
          <p:nvPr/>
        </p:nvSpPr>
        <p:spPr>
          <a:xfrm>
            <a:off x="228600" y="763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K Elham"/>
              </a:rPr>
              <a:t>تمرين فردي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4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4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20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20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20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b0f0"/>
                </a:solidFill>
                <a:latin typeface="Century Schoolbook"/>
                <a:cs typeface="K Elham"/>
              </a:rPr>
              <a:t>الفرصة  الوحيدة (الانطباع الأول)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837720" y="1904760"/>
            <a:ext cx="7086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بداية  من ذات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بتسم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فاءل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شخص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قدم نفسك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نظر لعينيه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قرأ في الأحداث...وأحفظ  شيئا من الطرف والنوادر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6" descr="E:\CLIPART\PEOPLE\MENPROF\MENO076.WMF"/>
          <p:cNvPicPr/>
          <p:nvPr/>
        </p:nvPicPr>
        <p:blipFill>
          <a:blip r:embed="rId1"/>
          <a:stretch/>
        </p:blipFill>
        <p:spPr>
          <a:xfrm>
            <a:off x="1828800" y="2286000"/>
            <a:ext cx="2286000" cy="2535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6" dur="500"/>
                                        <p:tgtEl>
                                          <p:spTgt spid="4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1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3809880" y="1371600"/>
            <a:ext cx="42674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تحدث عن نفسك كثير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تدعي المعرف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حفظ ماء وجه محدثك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5" name="Picture 6" descr="C:\Documents and Settings\asus\My Documents\عرض\صور4\GOVT143.WMF"/>
          <p:cNvPicPr/>
          <p:nvPr/>
        </p:nvPicPr>
        <p:blipFill>
          <a:blip r:embed="rId1"/>
          <a:stretch/>
        </p:blipFill>
        <p:spPr>
          <a:xfrm>
            <a:off x="380880" y="685800"/>
            <a:ext cx="4724640" cy="5562720"/>
          </a:xfrm>
          <a:prstGeom prst="rect">
            <a:avLst/>
          </a:prstGeom>
          <a:ln w="0">
            <a:noFill/>
          </a:ln>
        </p:spPr>
      </p:pic>
      <p:pic>
        <p:nvPicPr>
          <p:cNvPr id="456" name="WordArt 4" descr=""/>
          <p:cNvPicPr/>
          <p:nvPr/>
        </p:nvPicPr>
        <p:blipFill>
          <a:blip r:embed="rId2"/>
          <a:stretch/>
        </p:blipFill>
        <p:spPr>
          <a:xfrm>
            <a:off x="1749600" y="3651120"/>
            <a:ext cx="1670040" cy="10130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10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لاتكن فضوليا!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160020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20680" indent="-2206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ضع لك محيطا حيويا  ولاتتجاوز محيط الآخر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0680" indent="-2206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حبيب  اللهم  صلي وسلم عليه مع  أبي تراب؟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9" name="Picture 6" descr="C:\Documents and Settings\asus\My Documents\عرض\صور4\DSGNC036.WMF"/>
          <p:cNvPicPr/>
          <p:nvPr/>
        </p:nvPicPr>
        <p:blipFill>
          <a:blip r:embed="rId1"/>
          <a:stretch/>
        </p:blipFill>
        <p:spPr>
          <a:xfrm>
            <a:off x="3276720" y="3809880"/>
            <a:ext cx="2438280" cy="189396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7" descr="C:\Documents and Settings\asus\My Documents\عرض\صور4\EROAD178.WMF"/>
          <p:cNvPicPr/>
          <p:nvPr/>
        </p:nvPicPr>
        <p:blipFill>
          <a:blip r:embed="rId2"/>
          <a:stretch/>
        </p:blipFill>
        <p:spPr>
          <a:xfrm>
            <a:off x="762120" y="38862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C:\Documents and Settings\asus\My Documents\عرض\صور4\SGNRD022.WMF"/>
          <p:cNvPicPr/>
          <p:nvPr/>
        </p:nvPicPr>
        <p:blipFill>
          <a:blip r:embed="rId3"/>
          <a:stretch/>
        </p:blipFill>
        <p:spPr>
          <a:xfrm>
            <a:off x="6858000" y="3956040"/>
            <a:ext cx="1309680" cy="13780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4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قتنص  المواقف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63" name="Picture 5" descr="C:\Documents and Settings\asus\My Documents\عرض\صور4\ICONN103.WMF"/>
          <p:cNvPicPr/>
          <p:nvPr/>
        </p:nvPicPr>
        <p:blipFill>
          <a:blip r:embed="rId1"/>
          <a:stretch/>
        </p:blipFill>
        <p:spPr>
          <a:xfrm>
            <a:off x="6095880" y="182880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5" descr="E:\CLIPART\PEOPLE\HANDS\HAND141.WMF"/>
          <p:cNvPicPr/>
          <p:nvPr/>
        </p:nvPicPr>
        <p:blipFill>
          <a:blip r:embed="rId2"/>
          <a:stretch/>
        </p:blipFill>
        <p:spPr>
          <a:xfrm>
            <a:off x="914400" y="1600200"/>
            <a:ext cx="4191120" cy="402912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 rot="20706600">
            <a:off x="1914120" y="2358720"/>
            <a:ext cx="15238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هم موقفين في الحياة!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blinds dir="vert"/>
  </p:transition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152280" y="0"/>
            <a:ext cx="861084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e8637"/>
                </a:solidFill>
                <a:latin typeface="Century Schoolbook"/>
                <a:cs typeface="K Elham"/>
              </a:rPr>
              <a:t>الشمعة  المضيئة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295280" y="1905120"/>
            <a:ext cx="5943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قصة ذو المسدسين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تجنب الانتقاد (انتقاد كاد يكلف  الحياة)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قصر الطرق لكسب العداوات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9" name="Rectangle 6" descr=""/>
          <p:cNvPicPr/>
          <p:nvPr/>
        </p:nvPicPr>
        <p:blipFill>
          <a:blip r:embed="rId1"/>
          <a:stretch/>
        </p:blipFill>
        <p:spPr>
          <a:xfrm>
            <a:off x="2359080" y="4840200"/>
            <a:ext cx="5346720" cy="8287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6" descr="C:\Documents and Settings\asus\My Documents\My Pictures\d8207cba96.gif"/>
          <p:cNvPicPr/>
          <p:nvPr/>
        </p:nvPicPr>
        <p:blipFill>
          <a:blip r:embed="rId2"/>
          <a:stretch/>
        </p:blipFill>
        <p:spPr>
          <a:xfrm>
            <a:off x="76320" y="53352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6" descr="C:\Documents and Settings\asus\My Documents\My Pictures\d8207cba96.gif"/>
          <p:cNvPicPr/>
          <p:nvPr/>
        </p:nvPicPr>
        <p:blipFill>
          <a:blip r:embed="rId3"/>
          <a:stretch/>
        </p:blipFill>
        <p:spPr>
          <a:xfrm>
            <a:off x="6705720" y="533520"/>
            <a:ext cx="2381040" cy="38098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8" descr="E:\CLIPART\ANIMALS\INSECTS\INSEC053.WMF"/>
          <p:cNvPicPr/>
          <p:nvPr/>
        </p:nvPicPr>
        <p:blipFill>
          <a:blip r:embed="rId4"/>
          <a:stretch/>
        </p:blipFill>
        <p:spPr>
          <a:xfrm>
            <a:off x="838080" y="5172120"/>
            <a:ext cx="1629000" cy="1305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9" descr="E:\CLIPART\ANIMALS\CARTANIM\CINSE022.WMF"/>
          <p:cNvPicPr/>
          <p:nvPr/>
        </p:nvPicPr>
        <p:blipFill>
          <a:blip r:embed="rId5"/>
          <a:stretch/>
        </p:blipFill>
        <p:spPr>
          <a:xfrm>
            <a:off x="6553080" y="5791320"/>
            <a:ext cx="863640" cy="676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2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2" dur="500"/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7" dur="500"/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61" dur="2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895480" y="1828800"/>
            <a:ext cx="5639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 تشعر أنك ناجح في كسب الآخرين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ستطيع الخروج  من المواقف المحرجة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تحدث فينصت لك الآخرون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حس أن الناس يفرحون  بوجودك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تعامل مع الكل بحسب حا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وقعت لك مشاكل بسبب تعاملك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أعجبك تعامل شخص وحاكيت فع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رأيت شخصا محبوبا وتمنيت أن تُحب مثله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4" descr="C:\Documents and Settings\asus\My Documents\عرض\صور4\GOVT098.WMF"/>
          <p:cNvPicPr/>
          <p:nvPr/>
        </p:nvPicPr>
        <p:blipFill>
          <a:blip r:embed="rId1"/>
          <a:stretch/>
        </p:blipFill>
        <p:spPr>
          <a:xfrm>
            <a:off x="457200" y="3809880"/>
            <a:ext cx="2666880" cy="2551320"/>
          </a:xfrm>
          <a:prstGeom prst="rect">
            <a:avLst/>
          </a:prstGeom>
          <a:ln w="0">
            <a:noFill/>
          </a:ln>
        </p:spPr>
      </p:pic>
      <p:sp>
        <p:nvSpPr>
          <p:cNvPr id="369" name="Right Triangle 6"/>
          <p:cNvSpPr/>
          <p:nvPr/>
        </p:nvSpPr>
        <p:spPr>
          <a:xfrm rot="5400000">
            <a:off x="1866960" y="-1866960"/>
            <a:ext cx="3581280" cy="7315200"/>
          </a:xfrm>
          <a:prstGeom prst="rtTriangle">
            <a:avLst/>
          </a:prstGeom>
          <a:solidFill>
            <a:srgbClr val="fe9650"/>
          </a:solidFill>
          <a:ln w="0">
            <a:noFill/>
          </a:ln>
          <a:effectLst>
            <a:outerShdw dist="2484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-91440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Century Schoolbook"/>
                <a:cs typeface="K Elham"/>
              </a:rPr>
              <a:t>حقق  أمانيك  مع..</a:t>
            </a:r>
            <a:br>
              <a:rPr sz="4400"/>
            </a:br>
            <a:r>
              <a:rPr b="0" lang="ar-SA" sz="4400" spc="-1" strike="noStrike">
                <a:solidFill>
                  <a:srgbClr val="ffffff"/>
                </a:solidFill>
                <a:latin typeface="Century Schoolbook"/>
                <a:ea typeface="K Elham"/>
              </a:rPr>
              <a:t> دورة الذكاء الاجتماعي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ipe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8d6f0"/>
            </a:gs>
            <a:gs pos="100000">
              <a:srgbClr val="ffe5d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76720" y="350640"/>
            <a:ext cx="22096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900" spc="-1" strike="noStrike">
                <a:solidFill>
                  <a:srgbClr val="ffffff"/>
                </a:solidFill>
                <a:latin typeface="Century Schoolbook"/>
                <a:cs typeface="K Elham"/>
              </a:rPr>
              <a:t>فن</a:t>
            </a:r>
            <a:br>
              <a:rPr sz="4900"/>
            </a:br>
            <a:r>
              <a:rPr b="1" lang="ar-SA" sz="4900" spc="-1" strike="noStrike">
                <a:solidFill>
                  <a:srgbClr val="ffffff"/>
                </a:solidFill>
                <a:latin typeface="Century Schoolbook"/>
                <a:ea typeface="K Elham"/>
              </a:rPr>
              <a:t> النقد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5866920" y="10666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قواعد النقد البناء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حسن الن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سر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لا تداهم النواي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متعاطفا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لا تكثر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سلوك لا الهو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4360" indent="-23436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244583"/>
                </a:solidFill>
                <a:latin typeface="Century Schoolbook"/>
                <a:cs typeface="AL-Mohanad Bold"/>
              </a:rPr>
              <a:t>النقد بين  القبول والتقب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ll dir="d"/>
  </p:transition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9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6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8" dur="1000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1000" fill="hold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4" dur="1000"/>
                                        <p:tgtEl>
                                          <p:spTgt spid="4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2" dur="1000"/>
                                        <p:tgtEl>
                                          <p:spTgt spid="4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3160" y="6854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d2611c"/>
                </a:solidFill>
                <a:latin typeface="Century Schoolbook"/>
                <a:cs typeface="ACS  Zomorrod Extra Bold"/>
              </a:rPr>
              <a:t>استراتيجية  الفطيرة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575f6d"/>
                </a:solidFill>
                <a:latin typeface="Century Schoolbook"/>
                <a:cs typeface="Andalus"/>
              </a:rPr>
              <a:t>ثناء_الملاحظة_شكر</a:t>
            </a:r>
            <a:endParaRPr b="0" lang="en-US" sz="8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قم  بكتابة  رسالة تنصح  فيها زميلا  مقصرا في صلاة الجماع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9" name="Picture 8" descr="E:\CLIPART\BORDERS\BRDRMISC\BDROC007.WMF"/>
          <p:cNvPicPr/>
          <p:nvPr/>
        </p:nvPicPr>
        <p:blipFill>
          <a:blip r:embed="rId1"/>
          <a:stretch/>
        </p:blipFill>
        <p:spPr>
          <a:xfrm>
            <a:off x="228600" y="0"/>
            <a:ext cx="2270160" cy="15238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5"/>
          <p:cNvSpPr/>
          <p:nvPr/>
        </p:nvSpPr>
        <p:spPr>
          <a:xfrm>
            <a:off x="537480" y="590400"/>
            <a:ext cx="1276560" cy="6426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fff39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75f6d"/>
                </a:solidFill>
                <a:latin typeface="Verdana"/>
                <a:cs typeface="Andalus"/>
              </a:rPr>
              <a:t>نشاط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85840" y="228600"/>
            <a:ext cx="4267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 فن النقد  اتقن  فن.............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diamond/>
  </p:transition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5" descr="C:\Documents and Settings\asus\My Documents\عرض\صور4\4.JPG"/>
          <p:cNvPicPr/>
          <p:nvPr/>
        </p:nvPicPr>
        <p:blipFill>
          <a:blip r:embed="rId1"/>
          <a:stretch/>
        </p:blipFill>
        <p:spPr>
          <a:xfrm rot="18546600">
            <a:off x="1947600" y="569160"/>
            <a:ext cx="5085000" cy="6777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 rot="19577400">
            <a:off x="2031840" y="1374840"/>
            <a:ext cx="2286000" cy="18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كيف تتعامل مع المعروف عندما تقدمه او يقدم لك؟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edge/>
  </p:transition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99840" y="2057400"/>
            <a:ext cx="6095880" cy="1249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000000"/>
                </a:solidFill>
                <a:latin typeface="Century Schoolbook"/>
                <a:cs typeface="K Elham"/>
              </a:rPr>
              <a:t>من الفائز؟</a:t>
            </a:r>
            <a:endParaRPr b="0" lang="en-US" sz="10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strips dir="ru"/>
  </p:transition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575f6d"/>
                </a:solidFill>
                <a:latin typeface="Century Schoolbook"/>
              </a:rPr>
              <a:t>انتصار  بطعم  الهزيمة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القاعدة الأجمل 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in win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7" name="Picture 4" descr="C:\Documents and Settings\asus\My Documents\عرض\صور4\DSGNC041.WMF"/>
          <p:cNvPicPr/>
          <p:nvPr/>
        </p:nvPicPr>
        <p:blipFill>
          <a:blip r:embed="rId1"/>
          <a:stretch/>
        </p:blipFill>
        <p:spPr>
          <a:xfrm>
            <a:off x="2057400" y="2286000"/>
            <a:ext cx="35910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تنازعت مع  أحد  إخوانك على  موضوع إحضار اختك من الجامعة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Century Schoolbook"/>
              </a:rPr>
              <a:t>ماهي  الحلول الممكنة وماهو الحل الأمثل؟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489" name="Group 5"/>
          <p:cNvGrpSpPr/>
          <p:nvPr/>
        </p:nvGrpSpPr>
        <p:grpSpPr>
          <a:xfrm>
            <a:off x="457200" y="152280"/>
            <a:ext cx="2819520" cy="1460520"/>
            <a:chOff x="457200" y="152280"/>
            <a:chExt cx="2819520" cy="1460520"/>
          </a:xfrm>
        </p:grpSpPr>
        <p:pic>
          <p:nvPicPr>
            <p:cNvPr id="490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457200" y="304560"/>
              <a:ext cx="281952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Rectangle 2"/>
            <p:cNvSpPr/>
            <p:nvPr/>
          </p:nvSpPr>
          <p:spPr>
            <a:xfrm>
              <a:off x="766800" y="152280"/>
              <a:ext cx="18972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2"/>
          <p:cNvSpPr/>
          <p:nvPr/>
        </p:nvSpPr>
        <p:spPr>
          <a:xfrm>
            <a:off x="1295280" y="1905120"/>
            <a:ext cx="523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e8637"/>
                </a:solidFill>
                <a:latin typeface="Verdana"/>
                <a:cs typeface="K Elham"/>
              </a:rPr>
              <a:t>تم بحمد الله</a:t>
            </a:r>
            <a:endParaRPr b="0" lang="en-US" sz="8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TextBox 3"/>
          <p:cNvSpPr/>
          <p:nvPr/>
        </p:nvSpPr>
        <p:spPr>
          <a:xfrm>
            <a:off x="2590920" y="5867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  <a:cs typeface="AL-Mohanad Bold"/>
              </a:rPr>
              <a:t>د. خالد بن صالح المني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9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0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8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9000" y="380880"/>
            <a:ext cx="358128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9933"/>
                </a:solidFill>
                <a:latin typeface="Century Schoolbook"/>
                <a:cs typeface="K Elham"/>
              </a:rPr>
              <a:t>قبل  أن  نبدأ ..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2819520" y="1828800"/>
            <a:ext cx="5486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لا ترضى بأقل من عشر فوائد 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26440" indent="-22644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وعاهد الله  بنية صادقة على التطبيق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0520" y="2819160"/>
            <a:ext cx="48769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15%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من النجاح الوظيفي  يرجع للذكاء المنطقي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85%</a:t>
            </a: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 يرجع للذكاء العاطفي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Rectangle 5" descr=""/>
          <p:cNvPicPr/>
          <p:nvPr/>
        </p:nvPicPr>
        <p:blipFill>
          <a:blip r:embed="rId1"/>
          <a:stretch/>
        </p:blipFill>
        <p:spPr>
          <a:xfrm>
            <a:off x="291960" y="42840"/>
            <a:ext cx="4627800" cy="3267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Documents and Settings\asus\My Documents\عرض\صور4\23.JPG"/>
          <p:cNvPicPr/>
          <p:nvPr/>
        </p:nvPicPr>
        <p:blipFill>
          <a:blip r:embed="rId2"/>
          <a:stretch/>
        </p:blipFill>
        <p:spPr>
          <a:xfrm>
            <a:off x="5257800" y="380880"/>
            <a:ext cx="3152880" cy="2432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c8d6f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504960" y="380520"/>
            <a:ext cx="42670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مكــــــاســــبـــــــك من حسن الخلق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219320" y="3428640"/>
            <a:ext cx="63244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entury Schoolbook"/>
                <a:ea typeface="AL-Mohanad Bold"/>
              </a:rPr>
              <a:t>.................................................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451440" indent="-4514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grpSp>
        <p:nvGrpSpPr>
          <p:cNvPr id="378" name="Group 8"/>
          <p:cNvGrpSpPr/>
          <p:nvPr/>
        </p:nvGrpSpPr>
        <p:grpSpPr>
          <a:xfrm>
            <a:off x="304920" y="228600"/>
            <a:ext cx="2081160" cy="1460520"/>
            <a:chOff x="304920" y="228600"/>
            <a:chExt cx="2081160" cy="1460520"/>
          </a:xfrm>
        </p:grpSpPr>
        <p:pic>
          <p:nvPicPr>
            <p:cNvPr id="379" name="Picture 8" descr="E:\CLIPART\BORDERS\BRDRMISC\BDROC007.WMF"/>
            <p:cNvPicPr/>
            <p:nvPr/>
          </p:nvPicPr>
          <p:blipFill>
            <a:blip r:embed="rId1"/>
            <a:stretch/>
          </p:blipFill>
          <p:spPr>
            <a:xfrm>
              <a:off x="304920" y="380880"/>
              <a:ext cx="2081160" cy="13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Rectangle 2"/>
            <p:cNvSpPr/>
            <p:nvPr/>
          </p:nvSpPr>
          <p:spPr>
            <a:xfrm>
              <a:off x="533520" y="228600"/>
              <a:ext cx="14000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3600" spc="-1" strike="noStrike">
                  <a:solidFill>
                    <a:srgbClr val="ff0000"/>
                  </a:solidFill>
                  <a:latin typeface="Century Schoolbook"/>
                  <a:cs typeface="K Elham"/>
                </a:rPr>
                <a:t>تمرين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1" name="Picture 5" descr="C:\Documents and Settings\asus\My Documents\عرض\صور4\3.JPG"/>
          <p:cNvPicPr/>
          <p:nvPr/>
        </p:nvPicPr>
        <p:blipFill>
          <a:blip r:embed="rId2"/>
          <a:stretch/>
        </p:blipFill>
        <p:spPr>
          <a:xfrm>
            <a:off x="4419720" y="0"/>
            <a:ext cx="2133360" cy="174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257800" y="1188720"/>
            <a:ext cx="2743200" cy="1020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200" spc="-1" strike="noStrike">
                <a:solidFill>
                  <a:srgbClr val="fe8637"/>
                </a:solidFill>
                <a:latin typeface="Century Schoolbook"/>
                <a:cs typeface="K Elham"/>
              </a:rPr>
              <a:t>مكاسبك</a:t>
            </a:r>
            <a:endParaRPr b="0" lang="en-US" sz="6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06000" y="3048120"/>
            <a:ext cx="43419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e8637"/>
                </a:solidFill>
                <a:latin typeface="Century Schoolbook"/>
                <a:cs typeface="AL-Mohanad Bold"/>
              </a:rPr>
              <a:t>لتفـعيل مرؤوسيه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66cc"/>
                </a:solidFill>
                <a:latin typeface="Century Schoolbook"/>
                <a:cs typeface="AL-Mohanad Bold"/>
              </a:rPr>
              <a:t>لأسرة سعيدة وتربية حميد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b0f0"/>
                </a:solidFill>
                <a:latin typeface="Century Schoolbook"/>
                <a:cs typeface="AL-Mohanad Bold"/>
              </a:rPr>
              <a:t>الأزواج و الزوجات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9966"/>
                </a:solidFill>
                <a:latin typeface="Century Schoolbook"/>
                <a:cs typeface="AL-Mohanad Bold"/>
              </a:rPr>
              <a:t>الدعــــا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8a7007"/>
                </a:solidFill>
                <a:latin typeface="Century Schoolbook"/>
                <a:cs typeface="AL-Mohanad Bold"/>
              </a:rPr>
              <a:t>والمربين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267080" y="3504960"/>
            <a:ext cx="3657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66ff33"/>
                </a:solidFill>
                <a:latin typeface="Century Schoolbook"/>
                <a:cs typeface="AL-Mohanad Bold"/>
              </a:rPr>
              <a:t>التعامل مع الناس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598d9"/>
                </a:solidFill>
                <a:latin typeface="Century Schoolbook"/>
                <a:cs typeface="AL-Mohanad Bold"/>
              </a:rPr>
              <a:t>نحن في حـاجـتـهم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Century Schoolbook"/>
                <a:cs typeface="AL-Mohanad Bold"/>
              </a:rPr>
              <a:t>وهم في حاجتن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668c4"/>
                </a:solidFill>
                <a:latin typeface="Century Schoolbook"/>
                <a:cs typeface="AL-Mohanad Bold"/>
              </a:rPr>
              <a:t>لـلـدنـيـا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66"/>
                </a:solidFill>
                <a:latin typeface="Al-Kharashi 45"/>
                <a:cs typeface="AL-Mohanad Bold"/>
              </a:rPr>
              <a:t>وللآخـــــرة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5" descr="C:\Documents and Settings\asus\My Documents\عرض\صور\GOVT131.WMF"/>
          <p:cNvPicPr/>
          <p:nvPr/>
        </p:nvPicPr>
        <p:blipFill>
          <a:blip r:embed="rId1"/>
          <a:stretch/>
        </p:blipFill>
        <p:spPr>
          <a:xfrm>
            <a:off x="1828800" y="685800"/>
            <a:ext cx="2590920" cy="197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5" descr="C:\Documents and Settings\asus\My Documents\عرض\صور4\8.JPG"/>
          <p:cNvPicPr/>
          <p:nvPr/>
        </p:nvPicPr>
        <p:blipFill>
          <a:blip r:embed="rId1"/>
          <a:stretch/>
        </p:blipFill>
        <p:spPr>
          <a:xfrm>
            <a:off x="6477120" y="-2590920"/>
            <a:ext cx="2185920" cy="2590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 rot="684600">
            <a:off x="5743440" y="1133280"/>
            <a:ext cx="15940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cs typeface="K Elham"/>
              </a:rPr>
              <a:t>الخطوة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entury Schoolbook"/>
                <a:ea typeface="K Elham"/>
              </a:rPr>
              <a:t> الأولى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Rectangle 6" descr=""/>
          <p:cNvPicPr/>
          <p:nvPr/>
        </p:nvPicPr>
        <p:blipFill>
          <a:blip r:embed="rId2"/>
          <a:stretch/>
        </p:blipFill>
        <p:spPr>
          <a:xfrm>
            <a:off x="-66600" y="1670040"/>
            <a:ext cx="8345520" cy="4853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1.11111E-006 L -0.08611 0.4 E">
                                      <p:cBhvr>
                                        <p:cTn id="304" dur="2000" fill="hold"/>
                                        <p:tgtEl>
                                          <p:spTgt spid="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0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09880" y="1069920"/>
            <a:ext cx="45720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عمق رغبة إنسانية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ماهو الشيء الذي  يجعل  الآخرين  سعداء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هل تعرف  اول ما تطالب به  الدول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السلوك لا الهوية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أغنى رجلين في العالم  يقدمان  لك  وصفة  سحرية للتعامل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 rtl="1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entury Schoolbook"/>
                <a:cs typeface="AL-Mohanad Bold"/>
              </a:rPr>
              <a:t>رقم قياسي للزواج؟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4" descr="D:\only me\wafa3\no body\Things\brxbxp28323.jpg"/>
          <p:cNvPicPr/>
          <p:nvPr/>
        </p:nvPicPr>
        <p:blipFill>
          <a:blip r:embed="rId1"/>
          <a:stretch/>
        </p:blipFill>
        <p:spPr>
          <a:xfrm>
            <a:off x="609480" y="1155600"/>
            <a:ext cx="3407040" cy="41785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 rot="21363000">
            <a:off x="1117080" y="2248920"/>
            <a:ext cx="243864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Century Schoolbook"/>
                <a:cs typeface="K Elham"/>
              </a:rPr>
              <a:t>السر</a:t>
            </a:r>
            <a:br>
              <a:rPr sz="4400"/>
            </a:br>
            <a:r>
              <a:rPr b="0" lang="ar-SA" sz="4400" spc="-1" strike="noStrike">
                <a:solidFill>
                  <a:srgbClr val="000000"/>
                </a:solidFill>
                <a:latin typeface="Century Schoolbook"/>
                <a:ea typeface="K Elham"/>
              </a:rPr>
              <a:t> الخطير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wheel spokes="8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1T20:54:18Z</dcterms:created>
  <dc:creator>user</dc:creator>
  <dc:description/>
  <dc:language>en-US</dc:language>
  <cp:lastModifiedBy>www.arabswell.com</cp:lastModifiedBy>
  <dcterms:modified xsi:type="dcterms:W3CDTF">2008-03-03T13:10:54Z</dcterms:modified>
  <cp:revision>29</cp:revision>
  <dc:subject/>
  <dc:title>فن  التعامل  وقوة التأثير  </dc:title>
</cp:coreProperties>
</file>